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53E-4F6A-4835-AD66-DC454E50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438-355C-494D-8017-4C7978E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DBF-5A7F-4AA8-ABB4-F4E1B30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11D-831C-4882-A92D-8FD0EF18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FDA-8BD6-46EF-9C0F-55DECE15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4AA-E8DE-4E73-8F45-08524A2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8D0-CBD1-4156-906A-BFF137E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0E3-0031-4186-9C3F-4AAA22E3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836-32FB-4F6C-8E2E-0882F4E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7B4-E727-42C6-A130-47429BF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821-7A9A-4F02-BB9C-803CDA1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577-5D87-4FEB-9121-6B9774D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D219-FE59-47A7-AAEC-F860DB6CDEC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2" descr=""/>
          <p:cNvPicPr/>
          <p:nvPr/>
        </p:nvPicPr>
        <p:blipFill>
          <a:blip r:embed="rId2"/>
          <a:stretch/>
        </p:blipFill>
        <p:spPr>
          <a:xfrm>
            <a:off x="4164120" y="2882880"/>
            <a:ext cx="444240" cy="4636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90640" y="4840200"/>
            <a:ext cx="525456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2" descr=""/>
          <p:cNvPicPr/>
          <p:nvPr/>
        </p:nvPicPr>
        <p:blipFill>
          <a:blip r:embed="rId4"/>
          <a:stretch/>
        </p:blipFill>
        <p:spPr>
          <a:xfrm>
            <a:off x="5742000" y="1249200"/>
            <a:ext cx="2523960" cy="598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5"/>
          <a:stretch/>
        </p:blipFill>
        <p:spPr>
          <a:xfrm>
            <a:off x="4138560" y="115236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6"/>
          <a:stretch/>
        </p:blipFill>
        <p:spPr>
          <a:xfrm>
            <a:off x="4200480" y="3511440"/>
            <a:ext cx="4507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7"/>
          <a:stretch/>
        </p:blipFill>
        <p:spPr>
          <a:xfrm>
            <a:off x="4164120" y="1762200"/>
            <a:ext cx="4442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8"/>
          <a:stretch/>
        </p:blipFill>
        <p:spPr>
          <a:xfrm>
            <a:off x="4175280" y="2401920"/>
            <a:ext cx="5000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9"/>
          <a:stretch/>
        </p:blipFill>
        <p:spPr>
          <a:xfrm>
            <a:off x="2968560" y="1262160"/>
            <a:ext cx="80496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10"/>
          <a:stretch/>
        </p:blipFill>
        <p:spPr>
          <a:xfrm>
            <a:off x="2182680" y="1822320"/>
            <a:ext cx="98136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1"/>
          <a:stretch/>
        </p:blipFill>
        <p:spPr>
          <a:xfrm>
            <a:off x="2176560" y="3481560"/>
            <a:ext cx="981000" cy="461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12"/>
          <a:stretch/>
        </p:blipFill>
        <p:spPr>
          <a:xfrm>
            <a:off x="2992320" y="23223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3"/>
          <a:stretch/>
        </p:blipFill>
        <p:spPr>
          <a:xfrm>
            <a:off x="3449520" y="16635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4"/>
          <a:stretch/>
        </p:blipFill>
        <p:spPr>
          <a:xfrm>
            <a:off x="3206880" y="4157640"/>
            <a:ext cx="8046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5"/>
          <a:stretch/>
        </p:blipFill>
        <p:spPr>
          <a:xfrm>
            <a:off x="3505320" y="3316320"/>
            <a:ext cx="811080" cy="46368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16"/>
          <a:stretch/>
        </p:blipFill>
        <p:spPr>
          <a:xfrm>
            <a:off x="3236760" y="2882880"/>
            <a:ext cx="804960" cy="4636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3"/>
          <p:cNvSpPr/>
          <p:nvPr/>
        </p:nvSpPr>
        <p:spPr>
          <a:xfrm flipV="1">
            <a:off x="1319040" y="2053800"/>
            <a:ext cx="879480" cy="74628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25"/>
          <p:cNvSpPr/>
          <p:nvPr/>
        </p:nvSpPr>
        <p:spPr>
          <a:xfrm flipV="1">
            <a:off x="3146400" y="2047680"/>
            <a:ext cx="942840" cy="20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26"/>
          <p:cNvSpPr/>
          <p:nvPr/>
        </p:nvSpPr>
        <p:spPr>
          <a:xfrm>
            <a:off x="1320840" y="2975040"/>
            <a:ext cx="873000" cy="7398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27"/>
          <p:cNvSpPr/>
          <p:nvPr/>
        </p:nvSpPr>
        <p:spPr>
          <a:xfrm flipV="1">
            <a:off x="3125880" y="1452600"/>
            <a:ext cx="942840" cy="4572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28"/>
          <p:cNvSpPr/>
          <p:nvPr/>
        </p:nvSpPr>
        <p:spPr>
          <a:xfrm>
            <a:off x="3121200" y="3740040"/>
            <a:ext cx="1079280" cy="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29"/>
          <p:cNvSpPr/>
          <p:nvPr/>
        </p:nvSpPr>
        <p:spPr>
          <a:xfrm>
            <a:off x="3127320" y="3863880"/>
            <a:ext cx="1052640" cy="533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2" descr=""/>
          <p:cNvPicPr/>
          <p:nvPr/>
        </p:nvPicPr>
        <p:blipFill>
          <a:blip r:embed="rId17"/>
          <a:stretch/>
        </p:blipFill>
        <p:spPr>
          <a:xfrm>
            <a:off x="4164120" y="4164120"/>
            <a:ext cx="500040" cy="46332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34"/>
          <p:cNvSpPr/>
          <p:nvPr/>
        </p:nvSpPr>
        <p:spPr>
          <a:xfrm>
            <a:off x="3110040" y="2200320"/>
            <a:ext cx="1015920" cy="3366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35"/>
          <p:cNvSpPr/>
          <p:nvPr/>
        </p:nvSpPr>
        <p:spPr>
          <a:xfrm flipV="1">
            <a:off x="3137040" y="3114720"/>
            <a:ext cx="1019160" cy="55224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2" descr=""/>
          <p:cNvPicPr/>
          <p:nvPr/>
        </p:nvPicPr>
        <p:blipFill>
          <a:blip r:embed="rId18"/>
          <a:stretch/>
        </p:blipFill>
        <p:spPr>
          <a:xfrm>
            <a:off x="1219320" y="3346560"/>
            <a:ext cx="804600" cy="46332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2" descr=""/>
          <p:cNvPicPr/>
          <p:nvPr/>
        </p:nvPicPr>
        <p:blipFill>
          <a:blip r:embed="rId19"/>
          <a:stretch/>
        </p:blipFill>
        <p:spPr>
          <a:xfrm>
            <a:off x="1182600" y="5297400"/>
            <a:ext cx="526104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0"/>
          <a:stretch/>
        </p:blipFill>
        <p:spPr>
          <a:xfrm>
            <a:off x="1925640" y="5791320"/>
            <a:ext cx="532296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2" descr=""/>
          <p:cNvPicPr/>
          <p:nvPr/>
        </p:nvPicPr>
        <p:blipFill>
          <a:blip r:embed="rId21"/>
          <a:stretch/>
        </p:blipFill>
        <p:spPr>
          <a:xfrm>
            <a:off x="1238400" y="1895400"/>
            <a:ext cx="803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2" descr=""/>
          <p:cNvPicPr/>
          <p:nvPr/>
        </p:nvPicPr>
        <p:blipFill>
          <a:blip r:embed="rId2"/>
          <a:stretch/>
        </p:blipFill>
        <p:spPr>
          <a:xfrm>
            <a:off x="865080" y="1079640"/>
            <a:ext cx="6748560" cy="64584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858960" y="1584360"/>
            <a:ext cx="674820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2" descr=""/>
          <p:cNvPicPr/>
          <p:nvPr/>
        </p:nvPicPr>
        <p:blipFill>
          <a:blip r:embed="rId4"/>
          <a:stretch/>
        </p:blipFill>
        <p:spPr>
          <a:xfrm>
            <a:off x="2523960" y="2266920"/>
            <a:ext cx="36086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70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03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182232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112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8280" y="1871640"/>
            <a:ext cx="629136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5864400" y="1835280"/>
            <a:ext cx="2682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3588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1856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847800" y="2786040"/>
            <a:ext cx="6649920" cy="1011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450720" y="3591000"/>
            <a:ext cx="552312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341360" y="4041720"/>
            <a:ext cx="634536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8" descr=""/>
          <p:cNvPicPr/>
          <p:nvPr/>
        </p:nvPicPr>
        <p:blipFill>
          <a:blip r:embed="rId7"/>
          <a:stretch/>
        </p:blipFill>
        <p:spPr>
          <a:xfrm>
            <a:off x="6138720" y="3292560"/>
            <a:ext cx="2743200" cy="8715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0" descr=""/>
          <p:cNvPicPr/>
          <p:nvPr/>
        </p:nvPicPr>
        <p:blipFill>
          <a:blip r:embed="rId8"/>
          <a:stretch/>
        </p:blipFill>
        <p:spPr>
          <a:xfrm>
            <a:off x="6138720" y="4200480"/>
            <a:ext cx="276084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1494000" y="2408400"/>
            <a:ext cx="5443200" cy="676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567160" y="4486320"/>
            <a:ext cx="24066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11"/>
          <a:stretch/>
        </p:blipFill>
        <p:spPr>
          <a:xfrm>
            <a:off x="3960720" y="4950000"/>
            <a:ext cx="2022480" cy="15476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3" descr=""/>
          <p:cNvPicPr/>
          <p:nvPr/>
        </p:nvPicPr>
        <p:blipFill>
          <a:blip r:embed="rId12"/>
          <a:stretch/>
        </p:blipFill>
        <p:spPr>
          <a:xfrm>
            <a:off x="6138720" y="5632560"/>
            <a:ext cx="2760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2"/>
          <a:stretch/>
        </p:blipFill>
        <p:spPr>
          <a:xfrm>
            <a:off x="785880" y="1925640"/>
            <a:ext cx="594360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67880" cy="1011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2548080" y="2481120"/>
            <a:ext cx="4114800" cy="5432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2603520" y="2981160"/>
            <a:ext cx="6411960" cy="5367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6"/>
          <a:stretch/>
        </p:blipFill>
        <p:spPr>
          <a:xfrm>
            <a:off x="2541600" y="3608280"/>
            <a:ext cx="411480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1403280" y="4176720"/>
            <a:ext cx="288288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1" descr=""/>
          <p:cNvPicPr/>
          <p:nvPr/>
        </p:nvPicPr>
        <p:blipFill>
          <a:blip r:embed="rId8"/>
          <a:stretch/>
        </p:blipFill>
        <p:spPr>
          <a:xfrm>
            <a:off x="5735520" y="4151160"/>
            <a:ext cx="276228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228600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9360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884160" y="27068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328760" y="3541680"/>
            <a:ext cx="118908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3419640" y="2328840"/>
            <a:ext cx="324324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5864400" y="3486240"/>
            <a:ext cx="2743200" cy="86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316240" y="3548160"/>
            <a:ext cx="18540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84160" y="14270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920880" y="4737240"/>
            <a:ext cx="4846680" cy="1876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87440" y="1011240"/>
            <a:ext cx="32367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1" descr=""/>
          <p:cNvPicPr/>
          <p:nvPr/>
        </p:nvPicPr>
        <p:blipFill>
          <a:blip r:embed="rId5"/>
          <a:stretch/>
        </p:blipFill>
        <p:spPr>
          <a:xfrm>
            <a:off x="5851440" y="2419200"/>
            <a:ext cx="2743200" cy="8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1370160" y="2421000"/>
            <a:ext cx="3057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4" descr=""/>
          <p:cNvPicPr/>
          <p:nvPr/>
        </p:nvPicPr>
        <p:blipFill>
          <a:blip r:embed="rId3"/>
          <a:stretch/>
        </p:blipFill>
        <p:spPr>
          <a:xfrm>
            <a:off x="682560" y="987480"/>
            <a:ext cx="812664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781200" y="2664000"/>
            <a:ext cx="40287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12" descr=""/>
          <p:cNvPicPr/>
          <p:nvPr/>
        </p:nvPicPr>
        <p:blipFill>
          <a:blip r:embed="rId5"/>
          <a:stretch/>
        </p:blipFill>
        <p:spPr>
          <a:xfrm>
            <a:off x="6072120" y="4206960"/>
            <a:ext cx="2475000" cy="57780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853920" y="4816440"/>
            <a:ext cx="6747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932360" y="2664000"/>
            <a:ext cx="4029120" cy="1469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8"/>
          <a:stretch/>
        </p:blipFill>
        <p:spPr>
          <a:xfrm>
            <a:off x="847800" y="5668920"/>
            <a:ext cx="67485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43:12Z</dcterms:modified>
  <cp:revision>163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