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CCF-D24C-4DD4-89B8-AF7FB723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B74-EEE3-4D2A-8C66-A3C340B8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6D0-D006-48F6-83ED-B0814925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CDF-9C9C-4C23-8760-151025A5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F68-EC27-4AB3-962C-E67A7236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083-2751-4633-B152-140025F4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531-8476-46E3-95D3-5ADC9DE0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D91-1AF1-4E83-B2F7-8DF3E82B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5BD-1386-499B-9D9A-AEB753FD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19C-1727-4371-B4E6-6CBC30E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EED-EEEE-4195-A387-E2448EEC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675-4C86-4745-900F-95C4E35E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3FBD-6470-4E8F-957C-884D394CFC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21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79640"/>
            <a:ext cx="795492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738360" y="2494080"/>
            <a:ext cx="2889000" cy="6458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2"/>
          <p:cNvSpPr/>
          <p:nvPr/>
        </p:nvSpPr>
        <p:spPr>
          <a:xfrm>
            <a:off x="1763640" y="3429000"/>
            <a:ext cx="1638360" cy="1062000"/>
          </a:xfrm>
          <a:prstGeom prst="line">
            <a:avLst/>
          </a:prstGeom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6"/>
          <p:cNvSpPr/>
          <p:nvPr/>
        </p:nvSpPr>
        <p:spPr>
          <a:xfrm>
            <a:off x="1744560" y="3402000"/>
            <a:ext cx="73080" cy="7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3403440" y="4468680"/>
            <a:ext cx="71640" cy="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2332080" y="37846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1403280" y="2970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532320" y="42382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2449440" y="3418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944640" y="4979880"/>
            <a:ext cx="42498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950760" y="3365640"/>
            <a:ext cx="4249800" cy="12794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841320" y="2266920"/>
            <a:ext cx="2127240" cy="463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444680" y="2730600"/>
            <a:ext cx="1749240" cy="6159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944640" y="1085760"/>
            <a:ext cx="17794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963720" y="4711680"/>
            <a:ext cx="6699240" cy="128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938160" y="5913360"/>
            <a:ext cx="4249800" cy="676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3"/>
          <p:cNvSpPr/>
          <p:nvPr/>
        </p:nvSpPr>
        <p:spPr>
          <a:xfrm>
            <a:off x="6205680" y="3400560"/>
            <a:ext cx="2466720" cy="10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04a7b"/>
                </a:solidFill>
                <a:latin typeface="Calibri"/>
              </a:rPr>
              <a:t>There are other methods that you could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6:51Z</dcterms:modified>
  <cp:revision>110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