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787-949B-40EF-8D51-587A5175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AE7-9572-4F9D-AAC5-93C2EAFF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1B2-9D2C-4F3C-B1EB-40BC5946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CEB-C4A7-4F6B-BBBC-F35D61CB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A75-0F2B-433D-BB2F-F0CAD898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2FF-05F7-4F78-8222-01539955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CF1-E75A-4F9D-9B39-0697EFED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BD3-F162-42C7-A4CA-AB711F7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C5C-E060-4C77-A942-2A45E7F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C1B-D23F-4801-B710-C9C0991A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6AC-E915-4CC2-BD97-161E758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20A-431F-49F9-B9F9-F7883005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EFE7-2D6C-43DF-B1E0-6836C80E63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840280" y="1878120"/>
            <a:ext cx="2713320" cy="9079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768240" y="5516640"/>
            <a:ext cx="441972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69800" y="1889280"/>
            <a:ext cx="520560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38120" y="2444760"/>
            <a:ext cx="499896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80960" y="3389400"/>
            <a:ext cx="4859280" cy="622080"/>
          </a:xfrm>
          <a:prstGeom prst="rect">
            <a:avLst/>
          </a:prstGeom>
          <a:ln w="0">
            <a:noFill/>
          </a:ln>
        </p:spPr>
      </p:pic>
      <p:sp>
        <p:nvSpPr>
          <p:cNvPr id="50" name="Isosceles Triangle 1"/>
          <p:cNvSpPr/>
          <p:nvPr/>
        </p:nvSpPr>
        <p:spPr>
          <a:xfrm>
            <a:off x="5759280" y="3251160"/>
            <a:ext cx="2924280" cy="863640"/>
          </a:xfrm>
          <a:prstGeom prst="triangle">
            <a:avLst>
              <a:gd name="adj" fmla="val 0"/>
            </a:avLst>
          </a:prstGeom>
          <a:noFill/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7412040" y="370692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7070760" y="3193920"/>
            <a:ext cx="592200" cy="4701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5237280" y="344952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6748560" y="4127400"/>
            <a:ext cx="590400" cy="468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5759280" y="3933720"/>
            <a:ext cx="158760" cy="176400"/>
          </a:xfrm>
          <a:prstGeom prst="rect">
            <a:avLst/>
          </a:prstGeom>
          <a:noFill/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rc 5"/>
          <p:cNvSpPr/>
          <p:nvPr/>
        </p:nvSpPr>
        <p:spPr>
          <a:xfrm rot="12320400">
            <a:off x="7481880" y="3816000"/>
            <a:ext cx="334800" cy="349200"/>
          </a:xfrm>
          <a:custGeom>
            <a:avLst/>
            <a:gdLst/>
            <a:ahLst/>
            <a:rect l="l" t="t" r="r" b="b"/>
            <a:pathLst>
              <a:path stroke="0" w="334968" h="349809">
                <a:moveTo>
                  <a:pt x="232337" y="13645"/>
                </a:moveTo>
                <a:cubicBezTo>
                  <a:pt x="298299" y="42576"/>
                  <a:pt x="339381" y="112068"/>
                  <a:pt x="334592" y="186614"/>
                </a:cubicBezTo>
                <a:cubicBezTo>
                  <a:pt x="329758" y="261857"/>
                  <a:pt x="279287" y="325393"/>
                  <a:pt x="209369" y="344252"/>
                </a:cubicBezTo>
                <a:lnTo>
                  <a:pt x="167484" y="174905"/>
                </a:lnTo>
                <a:lnTo>
                  <a:pt x="232337" y="13645"/>
                </a:lnTo>
                <a:close/>
              </a:path>
              <a:path fill="none" w="334968" h="349809">
                <a:moveTo>
                  <a:pt x="232337" y="13645"/>
                </a:moveTo>
                <a:cubicBezTo>
                  <a:pt x="298299" y="42576"/>
                  <a:pt x="339381" y="112068"/>
                  <a:pt x="334592" y="186614"/>
                </a:cubicBezTo>
                <a:cubicBezTo>
                  <a:pt x="329758" y="261857"/>
                  <a:pt x="279287" y="325393"/>
                  <a:pt x="209369" y="344252"/>
                </a:cubicBezTo>
              </a:path>
            </a:pathLst>
          </a:custGeom>
          <a:noFill/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12"/>
          <a:stretch/>
        </p:blipFill>
        <p:spPr>
          <a:xfrm>
            <a:off x="487440" y="4340160"/>
            <a:ext cx="524808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3"/>
          <a:stretch/>
        </p:blipFill>
        <p:spPr>
          <a:xfrm>
            <a:off x="480960" y="4956120"/>
            <a:ext cx="5224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1:10:55Z</dcterms:modified>
  <cp:revision>12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