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243-E062-4FD3-BCCC-BC2379EF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62B-5A33-4D19-AEDA-C9AD2E5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9A1-2BFD-4E48-BAF9-1C392038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B13-740C-4D6F-A844-839B674B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8A3-77DA-4FBA-B644-59D7B19A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2C3-2BC9-4B80-8AF3-2677481B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7C3-D096-4185-AC8A-0209FE8C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E6D-E6D2-46D7-B5F1-1569E8C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B6C-8FE7-4A48-B620-AACC011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998-E382-49F1-9F2F-069A5911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63-81ED-42C6-A0E0-343D0FD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C94-2B82-432F-A752-4FC91C7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60B-E3FC-463D-B813-4AE6F36471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920880" y="3481560"/>
            <a:ext cx="7851600" cy="1292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2120" y="2451240"/>
            <a:ext cx="4108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516720" y="2712960"/>
            <a:ext cx="199404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884160" y="4705200"/>
            <a:ext cx="7912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768240" y="2371680"/>
            <a:ext cx="82260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3"/>
          <a:stretch/>
        </p:blipFill>
        <p:spPr>
          <a:xfrm>
            <a:off x="871560" y="1646280"/>
            <a:ext cx="7553160" cy="5475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38160" y="1079640"/>
            <a:ext cx="681516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847800" y="2889360"/>
            <a:ext cx="1834920" cy="4633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841320" y="3449520"/>
            <a:ext cx="3846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890640" y="41511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71560" y="46641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858960" y="5303880"/>
            <a:ext cx="18349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706840" y="5254560"/>
            <a:ext cx="3840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9:31Z</dcterms:modified>
  <cp:revision>11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