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976-3979-4D9C-A432-5BC7BB13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D11-F204-4BF7-BBF3-405E9B37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66B-C36F-4946-8EBF-3C6EDD2D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7F6-D3F4-4662-AA21-BC40DED3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4FE-E936-4B25-A869-F505B04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46B-2FF1-4986-8033-39168AA9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02E-5527-4CC4-8F03-01140815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5D3-65C9-49A7-8753-7B631791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2BB-F431-496B-8E15-D3F4F86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C74-1A2A-4B71-B172-745838E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B90-D518-406E-B2F1-3876C7B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E04-B75D-41B1-A319-FC105713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B3FA-3AFD-4B96-A5F8-6369172BE1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957240"/>
            <a:ext cx="7851960" cy="11034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176480" y="1932120"/>
            <a:ext cx="6261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76480" y="3395520"/>
            <a:ext cx="6351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365120" y="3913200"/>
            <a:ext cx="535968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82600" y="4572000"/>
            <a:ext cx="630864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84200" y="5467320"/>
            <a:ext cx="744876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6188040" y="3906720"/>
            <a:ext cx="215100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243480" y="5877000"/>
            <a:ext cx="2322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1285920" y="3425760"/>
            <a:ext cx="5095800" cy="744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781200" y="987480"/>
            <a:ext cx="809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785880" y="2389320"/>
            <a:ext cx="805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957240" y="1517760"/>
            <a:ext cx="777240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51640" y="2017800"/>
            <a:ext cx="318132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5645160" y="2770200"/>
            <a:ext cx="318780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1279440" y="4133880"/>
            <a:ext cx="5097600" cy="676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1279440" y="4950000"/>
            <a:ext cx="431028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5651640" y="5145120"/>
            <a:ext cx="168264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774720" y="5651640"/>
            <a:ext cx="7856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811080" y="2494080"/>
            <a:ext cx="6583320" cy="5410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817560" y="3011400"/>
            <a:ext cx="3632040" cy="6336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811080" y="3627360"/>
            <a:ext cx="36324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731880" y="2962440"/>
            <a:ext cx="8278920" cy="9572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712800" y="1176480"/>
            <a:ext cx="7845480" cy="18954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822240" y="3925800"/>
            <a:ext cx="7645320" cy="5428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298520" y="5407200"/>
            <a:ext cx="4608720" cy="6285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828720" y="4468680"/>
            <a:ext cx="8639280" cy="90828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6" descr=""/>
          <p:cNvPicPr/>
          <p:nvPr/>
        </p:nvPicPr>
        <p:blipFill>
          <a:blip r:embed="rId7"/>
          <a:stretch/>
        </p:blipFill>
        <p:spPr>
          <a:xfrm>
            <a:off x="6145200" y="5187960"/>
            <a:ext cx="27241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1305000" y="1109520"/>
            <a:ext cx="5400720" cy="6638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1311120" y="1895400"/>
            <a:ext cx="5400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2" descr=""/>
          <p:cNvPicPr/>
          <p:nvPr/>
        </p:nvPicPr>
        <p:blipFill>
          <a:blip r:embed="rId2"/>
          <a:stretch/>
        </p:blipFill>
        <p:spPr>
          <a:xfrm>
            <a:off x="646200" y="1231920"/>
            <a:ext cx="818676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811080" y="2286000"/>
            <a:ext cx="763776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346560"/>
            <a:ext cx="5400720" cy="63504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822240" y="2816280"/>
            <a:ext cx="4389480" cy="54288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6" descr=""/>
          <p:cNvPicPr/>
          <p:nvPr/>
        </p:nvPicPr>
        <p:blipFill>
          <a:blip r:embed="rId6"/>
          <a:stretch/>
        </p:blipFill>
        <p:spPr>
          <a:xfrm>
            <a:off x="5699160" y="3309840"/>
            <a:ext cx="2884320" cy="12319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249200" y="4017960"/>
            <a:ext cx="35546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1047600" y="1158840"/>
            <a:ext cx="8188560" cy="5414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225440" y="1725480"/>
            <a:ext cx="3425760" cy="541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1255680" y="3846600"/>
            <a:ext cx="5456160" cy="54936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811080" y="2419200"/>
            <a:ext cx="5613480" cy="5432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6" descr=""/>
          <p:cNvPicPr/>
          <p:nvPr/>
        </p:nvPicPr>
        <p:blipFill>
          <a:blip r:embed="rId6"/>
          <a:stretch/>
        </p:blipFill>
        <p:spPr>
          <a:xfrm>
            <a:off x="6523200" y="2462040"/>
            <a:ext cx="1882440" cy="7938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7"/>
          <a:stretch/>
        </p:blipFill>
        <p:spPr>
          <a:xfrm>
            <a:off x="1706400" y="4224240"/>
            <a:ext cx="3926160" cy="72576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8"/>
          <a:stretch/>
        </p:blipFill>
        <p:spPr>
          <a:xfrm>
            <a:off x="974880" y="2895480"/>
            <a:ext cx="5621040" cy="5860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1" descr=""/>
          <p:cNvPicPr/>
          <p:nvPr/>
        </p:nvPicPr>
        <p:blipFill>
          <a:blip r:embed="rId9"/>
          <a:stretch/>
        </p:blipFill>
        <p:spPr>
          <a:xfrm>
            <a:off x="6523200" y="3803760"/>
            <a:ext cx="1882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23:10Z</dcterms:modified>
  <cp:revision>15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