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1BA-D9E3-4F71-AA91-CB81D53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5B6-1C17-4C74-895E-36DCCD7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373-489F-4288-86C6-25800F55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B01-DFD6-4908-8818-265AD9F0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E87-6E57-4E71-A104-1FC05E0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2860-6BF3-4207-A476-931F83D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169-2D91-40A8-A38C-B8333B1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A93-98E2-4D5A-836E-8C029A4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75D-A70F-4FBF-8CAA-BAB4C36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2F0-BA9B-4F6E-BC41-88D9594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5CB-2781-4BFD-A57C-B39C4F3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7F1-292E-486B-B3E7-7FD9BD3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C07C-961B-4EEB-BC04-E11D170B5D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90600" y="1023840"/>
            <a:ext cx="8296200" cy="168300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"/>
          <p:cNvPicPr/>
          <p:nvPr/>
        </p:nvPicPr>
        <p:blipFill>
          <a:blip r:embed="rId3"/>
          <a:stretch/>
        </p:blipFill>
        <p:spPr>
          <a:xfrm>
            <a:off x="2755800" y="1779480"/>
            <a:ext cx="584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785880" y="3413160"/>
            <a:ext cx="17683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682560" y="2382840"/>
            <a:ext cx="482760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9" descr=""/>
          <p:cNvPicPr/>
          <p:nvPr/>
        </p:nvPicPr>
        <p:blipFill>
          <a:blip r:embed="rId5"/>
          <a:stretch/>
        </p:blipFill>
        <p:spPr>
          <a:xfrm>
            <a:off x="6516720" y="2425680"/>
            <a:ext cx="199404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81000" y="4505400"/>
            <a:ext cx="78454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152360" y="394344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74880" y="1030320"/>
            <a:ext cx="43891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2" descr=""/>
          <p:cNvPicPr/>
          <p:nvPr/>
        </p:nvPicPr>
        <p:blipFill>
          <a:blip r:embed="rId3"/>
          <a:stretch/>
        </p:blipFill>
        <p:spPr>
          <a:xfrm>
            <a:off x="5962680" y="1285920"/>
            <a:ext cx="256536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2871720" y="2309760"/>
            <a:ext cx="438300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2865600" y="3206880"/>
            <a:ext cx="4389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1:51Z</dcterms:modified>
  <cp:revision>124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