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FD0-C842-423A-9512-CDC7534A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36A-00C5-4B86-9E87-E2D47AA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F63-D03E-4321-943A-D4E48ACD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689-0D52-45A8-AFFC-C85ADF01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D3D-5FF7-44A7-BBEC-C865B778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A3D-2B4F-4755-BD7F-59C3E932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7BC-4004-4C08-9D5C-E8662AE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3E3-60B3-44CD-ABDA-A3C5D137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996-6E0B-47A5-B9FC-88D68A0E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5AC-ADE2-4822-A95A-F74E1C0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7AB-51E3-4B33-BBB0-231F96B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E7C-24FF-4870-BE5C-BD73039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3CCF-0005-4303-9040-64A1E8EE67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14156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68240" y="3517920"/>
            <a:ext cx="522468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2400" y="2243160"/>
            <a:ext cx="4827600" cy="12747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486480" y="3614760"/>
            <a:ext cx="20779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774720" y="4748040"/>
            <a:ext cx="803448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200240" y="4041720"/>
            <a:ext cx="248760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22280" y="5364000"/>
            <a:ext cx="3024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762120" y="2414520"/>
            <a:ext cx="522432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785880" y="1847880"/>
            <a:ext cx="50115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9" descr=""/>
          <p:cNvPicPr/>
          <p:nvPr/>
        </p:nvPicPr>
        <p:blipFill>
          <a:blip r:embed="rId4"/>
          <a:stretch/>
        </p:blipFill>
        <p:spPr>
          <a:xfrm>
            <a:off x="6351480" y="1835280"/>
            <a:ext cx="199404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781200" y="3602160"/>
            <a:ext cx="5722920" cy="1012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785880" y="1133640"/>
            <a:ext cx="248760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3438360" y="1212840"/>
            <a:ext cx="302292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987480" y="2951280"/>
            <a:ext cx="4621320" cy="614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792000" y="4438800"/>
            <a:ext cx="555948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878040" y="4943520"/>
            <a:ext cx="47005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957240" y="5230800"/>
            <a:ext cx="2865600" cy="615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944640" y="5791320"/>
            <a:ext cx="2865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27000" y="1127160"/>
            <a:ext cx="291312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713040" y="1109520"/>
            <a:ext cx="2486160" cy="6829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4"/>
          <a:stretch/>
        </p:blipFill>
        <p:spPr>
          <a:xfrm>
            <a:off x="1066680" y="2066760"/>
            <a:ext cx="159084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5"/>
          <a:stretch/>
        </p:blipFill>
        <p:spPr>
          <a:xfrm>
            <a:off x="695160" y="2762280"/>
            <a:ext cx="2438640" cy="461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6"/>
          <a:stretch/>
        </p:blipFill>
        <p:spPr>
          <a:xfrm>
            <a:off x="1322280" y="3333600"/>
            <a:ext cx="13050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7"/>
          <a:stretch/>
        </p:blipFill>
        <p:spPr>
          <a:xfrm>
            <a:off x="639720" y="4095720"/>
            <a:ext cx="3498840" cy="6843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8"/>
          <a:stretch/>
        </p:blipFill>
        <p:spPr>
          <a:xfrm>
            <a:off x="1279440" y="4711680"/>
            <a:ext cx="364644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9"/>
          <a:stretch/>
        </p:blipFill>
        <p:spPr>
          <a:xfrm>
            <a:off x="1749600" y="5327640"/>
            <a:ext cx="3315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2"/>
          <a:stretch/>
        </p:blipFill>
        <p:spPr>
          <a:xfrm>
            <a:off x="1481040" y="2212920"/>
            <a:ext cx="290844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3"/>
          <a:stretch/>
        </p:blipFill>
        <p:spPr>
          <a:xfrm>
            <a:off x="785880" y="1079640"/>
            <a:ext cx="350028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1884240" y="2955960"/>
            <a:ext cx="290700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1895400" y="3786120"/>
            <a:ext cx="29084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7:12Z</dcterms:modified>
  <cp:revision>13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