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0D2-1A80-43BF-80D1-B5ADEC49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624-7FDC-4C4F-8900-9DA11E51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202-56EE-4400-A793-B0DB4E74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3C3-0033-4C03-AA37-A88D5CD7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CF1-FBF2-446E-B9E3-D033F31F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548-FCC0-4891-898C-8E151BCB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CA5-20DD-4E52-AD07-3217FDBE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680-9BCA-4E80-94C7-863335E9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D9A-CE33-4994-9FC6-90BF6082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C67-69FC-4EA8-89AB-8B319230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D3A-9C1E-4162-A7A7-170CC76A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206-C20C-4D38-B216-E88EFB5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4A0C-CBCC-47D1-A477-118C50EA8A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390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79640"/>
            <a:ext cx="795672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1298520" y="2494080"/>
            <a:ext cx="5291280" cy="4618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219320" y="3090960"/>
            <a:ext cx="288288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0" descr=""/>
          <p:cNvPicPr/>
          <p:nvPr/>
        </p:nvPicPr>
        <p:blipFill>
          <a:blip r:embed="rId5"/>
          <a:stretch/>
        </p:blipFill>
        <p:spPr>
          <a:xfrm>
            <a:off x="5657760" y="2610000"/>
            <a:ext cx="2889360" cy="102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6"/>
          <a:stretch/>
        </p:blipFill>
        <p:spPr>
          <a:xfrm>
            <a:off x="1403280" y="3900600"/>
            <a:ext cx="2664000" cy="20048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33" descr=""/>
          <p:cNvPicPr/>
          <p:nvPr/>
        </p:nvPicPr>
        <p:blipFill>
          <a:blip r:embed="rId7"/>
          <a:stretch/>
        </p:blipFill>
        <p:spPr>
          <a:xfrm>
            <a:off x="5657760" y="3949560"/>
            <a:ext cx="2889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6:21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