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B46-A9C2-4302-B8CE-CD9D5729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58E-1E8E-4285-A0DB-CB493606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F58-F2FC-4240-B8A2-B2C25988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E74-9334-4084-A7B1-465705AB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9A8-534C-40C4-9AC3-B62C87F2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DB5-4B3C-4CA9-BDFF-33CD5FB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D3C-A230-47F3-89D4-7A5305DB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085-3924-4D35-AB25-07A42FE3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386-CD07-469B-BD55-2B860DF3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F37-6E5D-42B7-B114-6CCCA8C7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EF2-468D-4208-A05D-E0F3C68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CDB-E3B9-47F5-9F60-34CC916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B89E-528B-448D-9FBC-8D98AE86EB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004240" cy="10126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798480" y="20844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2" descr=""/>
          <p:cNvPicPr/>
          <p:nvPr/>
        </p:nvPicPr>
        <p:blipFill>
          <a:blip r:embed="rId4"/>
          <a:stretch/>
        </p:blipFill>
        <p:spPr>
          <a:xfrm>
            <a:off x="5791320" y="2193840"/>
            <a:ext cx="283500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1328760" y="2133720"/>
            <a:ext cx="6407280" cy="5364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6"/>
          <a:stretch/>
        </p:blipFill>
        <p:spPr>
          <a:xfrm>
            <a:off x="1249200" y="2597040"/>
            <a:ext cx="649296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311120" y="3060720"/>
            <a:ext cx="362592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8"/>
          <a:stretch/>
        </p:blipFill>
        <p:spPr>
          <a:xfrm>
            <a:off x="5470560" y="3605040"/>
            <a:ext cx="306216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9"/>
          <a:stretch/>
        </p:blipFill>
        <p:spPr>
          <a:xfrm>
            <a:off x="1371600" y="3859200"/>
            <a:ext cx="2193840" cy="18525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0"/>
          <a:stretch/>
        </p:blipFill>
        <p:spPr>
          <a:xfrm>
            <a:off x="3328920" y="4803840"/>
            <a:ext cx="11271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689040" y="1054080"/>
            <a:ext cx="7845480" cy="174456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3"/>
          <a:stretch/>
        </p:blipFill>
        <p:spPr>
          <a:xfrm>
            <a:off x="798480" y="277344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1298520" y="4608360"/>
            <a:ext cx="2266920" cy="5130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1212840" y="2773440"/>
            <a:ext cx="7254720" cy="1012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4286160" y="4237200"/>
            <a:ext cx="2187720" cy="18525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6199200" y="5175360"/>
            <a:ext cx="11286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219320" y="3621240"/>
            <a:ext cx="7259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1371600" y="1109520"/>
            <a:ext cx="6151680" cy="7797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212840" y="3127320"/>
            <a:ext cx="196848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65120" y="3638520"/>
            <a:ext cx="3597480" cy="18241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3389400" y="1847880"/>
            <a:ext cx="158436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4078440" y="2498760"/>
            <a:ext cx="1584000" cy="78084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7"/>
          <a:stretch/>
        </p:blipFill>
        <p:spPr>
          <a:xfrm>
            <a:off x="1298520" y="5662440"/>
            <a:ext cx="30909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17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232236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401840" y="21398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6022800" y="2120760"/>
            <a:ext cx="252432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7920" y="3303720"/>
            <a:ext cx="3865680" cy="750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4048200"/>
            <a:ext cx="3859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480960" y="2840040"/>
            <a:ext cx="6469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85760"/>
            <a:ext cx="785196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0" descr=""/>
          <p:cNvPicPr/>
          <p:nvPr/>
        </p:nvPicPr>
        <p:blipFill>
          <a:blip r:embed="rId4"/>
          <a:stretch/>
        </p:blipFill>
        <p:spPr>
          <a:xfrm>
            <a:off x="6138720" y="4767120"/>
            <a:ext cx="2760840" cy="738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80960" y="4475160"/>
            <a:ext cx="5523120" cy="1839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1170000" y="3571920"/>
            <a:ext cx="6553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506520" y="981000"/>
            <a:ext cx="552276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542960" y="3114720"/>
            <a:ext cx="63453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859200"/>
            <a:ext cx="64375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2384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480960" y="2511360"/>
            <a:ext cx="6469200" cy="6955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5" descr=""/>
          <p:cNvPicPr/>
          <p:nvPr/>
        </p:nvPicPr>
        <p:blipFill>
          <a:blip r:embed="rId4"/>
          <a:stretch/>
        </p:blipFill>
        <p:spPr>
          <a:xfrm>
            <a:off x="5937120" y="2494080"/>
            <a:ext cx="2762280" cy="839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371600" y="32432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3975120" y="4187880"/>
            <a:ext cx="2023920" cy="9205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1200240" y="5175360"/>
            <a:ext cx="3573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2" descr=""/>
          <p:cNvPicPr/>
          <p:nvPr/>
        </p:nvPicPr>
        <p:blipFill>
          <a:blip r:embed="rId2"/>
          <a:stretch/>
        </p:blipFill>
        <p:spPr>
          <a:xfrm>
            <a:off x="487440" y="2060640"/>
            <a:ext cx="552276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1328760" y="3475080"/>
            <a:ext cx="641988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1182600" y="1079640"/>
            <a:ext cx="65534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5" descr=""/>
          <p:cNvPicPr/>
          <p:nvPr/>
        </p:nvPicPr>
        <p:blipFill>
          <a:blip r:embed="rId5"/>
          <a:stretch/>
        </p:blipFill>
        <p:spPr>
          <a:xfrm>
            <a:off x="5943600" y="2030400"/>
            <a:ext cx="2762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2"/>
          <a:stretch/>
        </p:blipFill>
        <p:spPr>
          <a:xfrm>
            <a:off x="469800" y="1682640"/>
            <a:ext cx="5529240" cy="13780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4"/>
          <a:stretch/>
        </p:blipFill>
        <p:spPr>
          <a:xfrm>
            <a:off x="1401840" y="2809800"/>
            <a:ext cx="734544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5"/>
          <a:stretch/>
        </p:blipFill>
        <p:spPr>
          <a:xfrm>
            <a:off x="5797440" y="1762200"/>
            <a:ext cx="2749680" cy="10414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6"/>
          <a:stretch/>
        </p:blipFill>
        <p:spPr>
          <a:xfrm>
            <a:off x="2097000" y="4857840"/>
            <a:ext cx="4627800" cy="6411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7"/>
          <a:stretch/>
        </p:blipFill>
        <p:spPr>
          <a:xfrm>
            <a:off x="1274760" y="5699160"/>
            <a:ext cx="744840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8"/>
          <a:stretch/>
        </p:blipFill>
        <p:spPr>
          <a:xfrm>
            <a:off x="2103480" y="4017960"/>
            <a:ext cx="3797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2:20Z</dcterms:modified>
  <cp:revision>18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