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4DB-BB5B-4671-94E6-A49A2DA8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234-F056-4602-98B3-26FE72D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14C-272E-494C-B468-CCDCDC86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187-FED5-44F4-BD3E-343DC90E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D81-EA46-4B7D-9275-95FA57C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FBB-B780-464D-BF98-3905E8DA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762-549E-42A5-BF2C-71530F6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410-2199-4916-BFF9-8E8FF14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C8B-0AC4-4321-A331-7F1A4E9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846-95C8-40BA-9C3A-4FFEFEC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96D-B1F4-44FF-8097-5502C88A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3FE-04A3-4F10-B821-7DAD295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B5EF-E92B-459E-A1FF-3CD77B4805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29724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121280" y="140184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301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1390680" y="364500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4346640" y="1925640"/>
            <a:ext cx="3163680" cy="15667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420920" y="4157640"/>
            <a:ext cx="3004920" cy="5857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95360" y="5010120"/>
            <a:ext cx="379908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816200" y="549900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8"/>
          <a:stretch/>
        </p:blipFill>
        <p:spPr>
          <a:xfrm>
            <a:off x="6059520" y="3743280"/>
            <a:ext cx="2481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-30240" y="99360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554040" y="3773520"/>
            <a:ext cx="648000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036800" y="270684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065480" y="1054080"/>
            <a:ext cx="3170520" cy="15667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138560" y="2706840"/>
            <a:ext cx="300060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36800" y="318132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395360" y="4559400"/>
            <a:ext cx="380520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390680" y="5162400"/>
            <a:ext cx="512604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390680" y="5810400"/>
            <a:ext cx="742932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1042920" y="3193920"/>
            <a:ext cx="380376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1914480" y="45529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03400" y="5400720"/>
            <a:ext cx="512136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42920" y="1127160"/>
            <a:ext cx="743112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3206880" y="1657440"/>
            <a:ext cx="237636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3316320" y="226692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3584520" y="271296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395360" y="4091040"/>
            <a:ext cx="3805200" cy="461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390680" y="36385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9" descr=""/>
          <p:cNvPicPr/>
          <p:nvPr/>
        </p:nvPicPr>
        <p:blipFill>
          <a:blip r:embed="rId10"/>
          <a:stretch/>
        </p:blipFill>
        <p:spPr>
          <a:xfrm>
            <a:off x="6035760" y="3809880"/>
            <a:ext cx="247500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11"/>
          <a:stretch/>
        </p:blipFill>
        <p:spPr>
          <a:xfrm>
            <a:off x="2090880" y="4937040"/>
            <a:ext cx="2597040" cy="4636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12"/>
          <a:stretch/>
        </p:blipFill>
        <p:spPr>
          <a:xfrm>
            <a:off x="2090880" y="5857920"/>
            <a:ext cx="14745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83203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4" descr=""/>
          <p:cNvPicPr/>
          <p:nvPr/>
        </p:nvPicPr>
        <p:blipFill>
          <a:blip r:embed="rId2"/>
          <a:stretch/>
        </p:blipFill>
        <p:spPr>
          <a:xfrm>
            <a:off x="682560" y="1238400"/>
            <a:ext cx="785196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963720" y="4359240"/>
            <a:ext cx="6583320" cy="835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566640" y="2567160"/>
            <a:ext cx="4462560" cy="1455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5"/>
          <a:stretch/>
        </p:blipFill>
        <p:spPr>
          <a:xfrm>
            <a:off x="5145120" y="256716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Phil</cp:lastModifiedBy>
  <dcterms:modified xsi:type="dcterms:W3CDTF">2012-02-08T10:52:38Z</dcterms:modified>
  <cp:revision>105</cp:revision>
  <dc:subject/>
  <dc:title>Maths Studies</dc:title>
</cp:coreProperties>
</file>