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4E3-3B21-4F3C-BBA1-D7B7C093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C14-CE3E-4EE8-A73E-2FB0DD87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3B5-0A0F-46CC-B64F-0F6DEC0A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B7F-0FFB-4E11-9C74-841A17E5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AF6-73A3-45AB-B8F6-5F9D8F6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775-5656-46E4-B7F3-D5EB6411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D96-8927-4E4E-A757-3A0DAF2B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4BF-C74B-4912-9F09-05ECA91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0F3-B66A-4D09-B268-3D5D2051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EBE-730A-4CDB-9679-E312E69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4D9-CDAF-4772-ADE9-8D9DBA4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9E8-7CE5-479E-A165-406EC51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B938-F90C-482F-817C-44CC6F7158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5899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889280"/>
            <a:ext cx="907920" cy="6458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95160" y="1006560"/>
            <a:ext cx="784548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907920" y="3067200"/>
            <a:ext cx="5962680" cy="461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46240" y="3681360"/>
            <a:ext cx="3717720" cy="5191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189080" y="1901880"/>
            <a:ext cx="315756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7"/>
          <a:stretch/>
        </p:blipFill>
        <p:spPr>
          <a:xfrm>
            <a:off x="4541760" y="2023920"/>
            <a:ext cx="3998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2"/>
          <a:stretch/>
        </p:blipFill>
        <p:spPr>
          <a:xfrm>
            <a:off x="493560" y="2359080"/>
            <a:ext cx="8321760" cy="1012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4" descr=""/>
          <p:cNvPicPr/>
          <p:nvPr/>
        </p:nvPicPr>
        <p:blipFill>
          <a:blip r:embed="rId3"/>
          <a:stretch/>
        </p:blipFill>
        <p:spPr>
          <a:xfrm>
            <a:off x="738360" y="1042920"/>
            <a:ext cx="802152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920880" y="4552920"/>
            <a:ext cx="326700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01800" y="3249720"/>
            <a:ext cx="3517920" cy="1090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305000" y="5200560"/>
            <a:ext cx="431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4572000" y="3260880"/>
            <a:ext cx="3749760" cy="10918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3" descr=""/>
          <p:cNvPicPr/>
          <p:nvPr/>
        </p:nvPicPr>
        <p:blipFill>
          <a:blip r:embed="rId8"/>
          <a:stretch/>
        </p:blipFill>
        <p:spPr>
          <a:xfrm>
            <a:off x="4937040" y="4541760"/>
            <a:ext cx="367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2"/>
          <a:stretch/>
        </p:blipFill>
        <p:spPr>
          <a:xfrm>
            <a:off x="463680" y="1878120"/>
            <a:ext cx="83264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3"/>
          <a:stretch/>
        </p:blipFill>
        <p:spPr>
          <a:xfrm>
            <a:off x="706320" y="1006560"/>
            <a:ext cx="795024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4"/>
          <a:stretch/>
        </p:blipFill>
        <p:spPr>
          <a:xfrm>
            <a:off x="920880" y="4797360"/>
            <a:ext cx="4279680" cy="646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895320" y="2571840"/>
            <a:ext cx="7742160" cy="689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901800" y="5383080"/>
            <a:ext cx="6761160" cy="6829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914400" y="3260880"/>
            <a:ext cx="811368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920880" y="3975120"/>
            <a:ext cx="81136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4:14Z</dcterms:modified>
  <cp:revision>109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