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B43-2252-41CE-A9E5-A7DF3E2B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E5C-3568-42C5-BC07-EBA3E0B1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593-6778-4643-BBCB-A174E7FC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EEC-41C2-4835-B18B-BD477E1F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EFF-505A-49F0-A56A-702C3C7A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758-6BAD-4A8B-808F-AE2AAB90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F2E-BAEC-4BDD-8CB1-A3BE5E1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D22-6FEF-49BA-95C0-8BAC192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448-B5FE-4B2F-8C64-5C3A602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C993-702A-44CF-84AC-32F94D1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061-07F1-40F9-ABD8-112C77C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F4B-F09A-42E8-AEA4-E9BBFFC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87CA-BCB6-436F-BADF-529E5BBB31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773360" y="3286080"/>
            <a:ext cx="553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755640" y="1011240"/>
            <a:ext cx="7845480" cy="16225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2" descr=""/>
          <p:cNvPicPr/>
          <p:nvPr/>
        </p:nvPicPr>
        <p:blipFill>
          <a:blip r:embed="rId3"/>
          <a:stretch/>
        </p:blipFill>
        <p:spPr>
          <a:xfrm>
            <a:off x="5084640" y="3657600"/>
            <a:ext cx="3821400" cy="58572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469800" y="2687760"/>
            <a:ext cx="8186760" cy="645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2127240" y="3187800"/>
            <a:ext cx="3773520" cy="5428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1335240" y="3730680"/>
            <a:ext cx="3773160" cy="463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1322280" y="4194000"/>
            <a:ext cx="37735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352520" y="4638600"/>
            <a:ext cx="71215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2090880" y="2316240"/>
            <a:ext cx="2047680" cy="6159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335240" y="2938320"/>
            <a:ext cx="4760640" cy="8478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28760" y="1006560"/>
            <a:ext cx="5346720" cy="877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1316160" y="1901880"/>
            <a:ext cx="3779640" cy="463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1347840" y="4511520"/>
            <a:ext cx="3741840" cy="8416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0" descr=""/>
          <p:cNvPicPr/>
          <p:nvPr/>
        </p:nvPicPr>
        <p:blipFill>
          <a:blip r:embed="rId7"/>
          <a:stretch/>
        </p:blipFill>
        <p:spPr>
          <a:xfrm>
            <a:off x="6235560" y="2987640"/>
            <a:ext cx="249408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8"/>
          <a:stretch/>
        </p:blipFill>
        <p:spPr>
          <a:xfrm>
            <a:off x="1341360" y="3968640"/>
            <a:ext cx="417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47600"/>
            <a:ext cx="8407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64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269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92504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182600" y="2548080"/>
            <a:ext cx="22734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255680" y="1901880"/>
            <a:ext cx="61880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066680" y="3664080"/>
            <a:ext cx="439596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7"/>
          <a:stretch/>
        </p:blipFill>
        <p:spPr>
          <a:xfrm>
            <a:off x="6175440" y="1889280"/>
            <a:ext cx="240192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116000" y="3041640"/>
            <a:ext cx="4614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4"/>
          <a:stretch/>
        </p:blipFill>
        <p:spPr>
          <a:xfrm>
            <a:off x="878040" y="2597040"/>
            <a:ext cx="724212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5"/>
          <a:stretch/>
        </p:blipFill>
        <p:spPr>
          <a:xfrm>
            <a:off x="871560" y="3139920"/>
            <a:ext cx="5522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0640" y="2425680"/>
            <a:ext cx="4821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95560" y="3333600"/>
            <a:ext cx="231588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5" descr=""/>
          <p:cNvPicPr/>
          <p:nvPr/>
        </p:nvPicPr>
        <p:blipFill>
          <a:blip r:embed="rId6"/>
          <a:stretch/>
        </p:blipFill>
        <p:spPr>
          <a:xfrm>
            <a:off x="5999040" y="21938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884160" y="2828880"/>
            <a:ext cx="482760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8" descr=""/>
          <p:cNvPicPr/>
          <p:nvPr/>
        </p:nvPicPr>
        <p:blipFill>
          <a:blip r:embed="rId8"/>
          <a:stretch/>
        </p:blipFill>
        <p:spPr>
          <a:xfrm>
            <a:off x="5999040" y="3005280"/>
            <a:ext cx="254808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9"/>
          <a:stretch/>
        </p:blipFill>
        <p:spPr>
          <a:xfrm>
            <a:off x="1238400" y="3754440"/>
            <a:ext cx="316224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0"/>
          <a:stretch/>
        </p:blipFill>
        <p:spPr>
          <a:xfrm>
            <a:off x="1238400" y="5157720"/>
            <a:ext cx="554652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5772240"/>
            <a:ext cx="55897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2"/>
          <a:stretch/>
        </p:blipFill>
        <p:spPr>
          <a:xfrm>
            <a:off x="1195560" y="4255920"/>
            <a:ext cx="5583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33440" y="1994040"/>
            <a:ext cx="5540400" cy="6458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50760"/>
            <a:ext cx="785196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914400" y="5010120"/>
            <a:ext cx="5400720" cy="744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200240" y="2620800"/>
            <a:ext cx="496260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865080" y="3664080"/>
            <a:ext cx="6589800" cy="6458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6175440" y="3328920"/>
            <a:ext cx="263988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120760" y="3078000"/>
            <a:ext cx="488952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1884240" y="41878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1" descr=""/>
          <p:cNvPicPr/>
          <p:nvPr/>
        </p:nvPicPr>
        <p:blipFill>
          <a:blip r:embed="rId10"/>
          <a:stretch/>
        </p:blipFill>
        <p:spPr>
          <a:xfrm>
            <a:off x="6218280" y="4273560"/>
            <a:ext cx="2487600" cy="74916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11"/>
          <a:stretch/>
        </p:blipFill>
        <p:spPr>
          <a:xfrm>
            <a:off x="1347840" y="4591080"/>
            <a:ext cx="4876920" cy="4618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12"/>
          <a:stretch/>
        </p:blipFill>
        <p:spPr>
          <a:xfrm>
            <a:off x="914400" y="5626080"/>
            <a:ext cx="71499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80960" y="1798560"/>
            <a:ext cx="1354320" cy="64620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2" descr=""/>
          <p:cNvPicPr/>
          <p:nvPr/>
        </p:nvPicPr>
        <p:blipFill>
          <a:blip r:embed="rId4"/>
          <a:stretch/>
        </p:blipFill>
        <p:spPr>
          <a:xfrm>
            <a:off x="1401840" y="4651200"/>
            <a:ext cx="5492520" cy="161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403280" y="1698480"/>
            <a:ext cx="49816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4" descr=""/>
          <p:cNvPicPr/>
          <p:nvPr/>
        </p:nvPicPr>
        <p:blipFill>
          <a:blip r:embed="rId2"/>
          <a:stretch/>
        </p:blipFill>
        <p:spPr>
          <a:xfrm>
            <a:off x="676440" y="1085760"/>
            <a:ext cx="8010360" cy="18590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189080" y="3524400"/>
            <a:ext cx="4174920" cy="6458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469800" y="2919240"/>
            <a:ext cx="8186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37:06Z</dcterms:modified>
  <cp:revision>15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