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F00-1FBC-4B8B-86F2-FF106873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ED1-4E74-4676-A9B1-0F5D201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6F9-9652-4C27-92F7-28A699C1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0BC-916A-4F00-A515-94BB9EF3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5FF-2050-4227-A76D-14E3301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8FD-4A7E-4130-B437-5771113E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4A4-51F9-434B-816D-3C1E805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CA4-6F57-4386-90EB-696663F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B92-D762-4198-9B2D-060ABA9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279-33B1-4DCC-A605-AAFBF43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6AA-3D24-41A8-B969-2F9CB1B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E27-AB2D-460F-91EF-DFF3C66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66CF-71C2-46F0-B73C-D76B958B8E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000080" y="2438280"/>
            <a:ext cx="508968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2090880" y="3048120"/>
            <a:ext cx="3792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6360" y="1920960"/>
            <a:ext cx="537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76280" y="1962000"/>
            <a:ext cx="8326440" cy="6843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285920" y="2639880"/>
            <a:ext cx="30416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2" descr=""/>
          <p:cNvPicPr/>
          <p:nvPr/>
        </p:nvPicPr>
        <p:blipFill>
          <a:blip r:embed="rId5"/>
          <a:stretch/>
        </p:blipFill>
        <p:spPr>
          <a:xfrm>
            <a:off x="5657760" y="1920960"/>
            <a:ext cx="2889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596880" y="1865160"/>
            <a:ext cx="805968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14400" y="3492360"/>
            <a:ext cx="6918480" cy="10130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2865600" y="2346480"/>
            <a:ext cx="3406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3371760" y="2755800"/>
            <a:ext cx="2419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0:19Z</dcterms:modified>
  <cp:revision>8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