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39C-1791-45B0-B7A7-2785029E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A4F-9967-44EE-B7FD-51C03518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19F-8FDD-4CCC-83FF-025689B1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3BF-AF54-4B41-A5E4-4B659998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42D-E484-4503-8823-F8739CC6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8D2-8F93-4129-91EB-BF36C90D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2B3-2C8D-4463-BC41-6D59A0C3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414-3A03-4BDF-9320-9AC050AB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6CE-844C-4FAD-9301-AC044A9D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8B9-592B-4A81-9E82-095F0D07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563-638F-4EC5-92D1-ADC8257A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E5B-9996-441C-8FB0-CC7E1808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0644-34A1-4B7C-8F04-2342F47F189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4549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523800" y="2487600"/>
            <a:ext cx="90828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79640"/>
            <a:ext cx="7864560" cy="13777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878040" y="2951280"/>
            <a:ext cx="5089320" cy="669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69840" y="3608280"/>
            <a:ext cx="3718080" cy="6652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200240" y="2481120"/>
            <a:ext cx="20606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6" descr=""/>
          <p:cNvPicPr/>
          <p:nvPr/>
        </p:nvPicPr>
        <p:blipFill>
          <a:blip r:embed="rId7"/>
          <a:stretch/>
        </p:blipFill>
        <p:spPr>
          <a:xfrm>
            <a:off x="5999040" y="5126040"/>
            <a:ext cx="2548080" cy="7938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8" descr=""/>
          <p:cNvPicPr/>
          <p:nvPr/>
        </p:nvPicPr>
        <p:blipFill>
          <a:blip r:embed="rId8"/>
          <a:stretch/>
        </p:blipFill>
        <p:spPr>
          <a:xfrm>
            <a:off x="4541760" y="3432240"/>
            <a:ext cx="4005360" cy="11588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981000" y="4273560"/>
            <a:ext cx="2371680" cy="6699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1725480" y="4992840"/>
            <a:ext cx="3552840" cy="6458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969840" y="5730840"/>
            <a:ext cx="51865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914400" y="2786040"/>
            <a:ext cx="5089680" cy="6825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1189080" y="1079640"/>
            <a:ext cx="3022560" cy="64584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7" descr=""/>
          <p:cNvPicPr/>
          <p:nvPr/>
        </p:nvPicPr>
        <p:blipFill>
          <a:blip r:embed="rId4"/>
          <a:stretch/>
        </p:blipFill>
        <p:spPr>
          <a:xfrm>
            <a:off x="6089760" y="5237280"/>
            <a:ext cx="2639880" cy="79200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8" descr=""/>
          <p:cNvPicPr/>
          <p:nvPr/>
        </p:nvPicPr>
        <p:blipFill>
          <a:blip r:embed="rId5"/>
          <a:stretch/>
        </p:blipFill>
        <p:spPr>
          <a:xfrm>
            <a:off x="4627440" y="1566720"/>
            <a:ext cx="3998880" cy="11574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1011240" y="1579680"/>
            <a:ext cx="2378160" cy="6634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1847880" y="4705200"/>
            <a:ext cx="3552840" cy="648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987480" y="5267160"/>
            <a:ext cx="5187960" cy="6462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1743120" y="3449520"/>
            <a:ext cx="5095800" cy="6652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1743120" y="4078440"/>
            <a:ext cx="50958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>
            <a:off x="920880" y="4645080"/>
            <a:ext cx="5095800" cy="6159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3"/>
          <a:stretch/>
        </p:blipFill>
        <p:spPr>
          <a:xfrm>
            <a:off x="1189080" y="1079640"/>
            <a:ext cx="3022560" cy="64584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4"/>
          <a:stretch/>
        </p:blipFill>
        <p:spPr>
          <a:xfrm>
            <a:off x="1011240" y="1584360"/>
            <a:ext cx="2378160" cy="6714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5"/>
          <a:stretch/>
        </p:blipFill>
        <p:spPr>
          <a:xfrm>
            <a:off x="1822320" y="3419640"/>
            <a:ext cx="3560760" cy="64584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6"/>
          <a:stretch/>
        </p:blipFill>
        <p:spPr>
          <a:xfrm>
            <a:off x="1000080" y="5742000"/>
            <a:ext cx="518796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7"/>
          <a:stretch/>
        </p:blipFill>
        <p:spPr>
          <a:xfrm>
            <a:off x="1639800" y="2114640"/>
            <a:ext cx="2151000" cy="61596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8"/>
          <a:stretch/>
        </p:blipFill>
        <p:spPr>
          <a:xfrm>
            <a:off x="1030320" y="2859120"/>
            <a:ext cx="2736720" cy="61596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9"/>
          <a:stretch/>
        </p:blipFill>
        <p:spPr>
          <a:xfrm>
            <a:off x="1847880" y="5205240"/>
            <a:ext cx="355284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10"/>
          <a:stretch/>
        </p:blipFill>
        <p:spPr>
          <a:xfrm>
            <a:off x="1011240" y="3889440"/>
            <a:ext cx="51879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2" descr=""/>
          <p:cNvPicPr/>
          <p:nvPr/>
        </p:nvPicPr>
        <p:blipFill>
          <a:blip r:embed="rId2"/>
          <a:stretch/>
        </p:blipFill>
        <p:spPr>
          <a:xfrm>
            <a:off x="444600" y="1932120"/>
            <a:ext cx="8327880" cy="7254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4"/>
          <a:stretch/>
        </p:blipFill>
        <p:spPr>
          <a:xfrm>
            <a:off x="895320" y="2809800"/>
            <a:ext cx="201312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5"/>
          <a:stretch/>
        </p:blipFill>
        <p:spPr>
          <a:xfrm>
            <a:off x="3790800" y="3273480"/>
            <a:ext cx="5089680" cy="22129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6"/>
          <a:stretch/>
        </p:blipFill>
        <p:spPr>
          <a:xfrm>
            <a:off x="901800" y="4548240"/>
            <a:ext cx="2305080" cy="6462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7"/>
          <a:stretch/>
        </p:blipFill>
        <p:spPr>
          <a:xfrm>
            <a:off x="4352760" y="2004840"/>
            <a:ext cx="2853000" cy="103680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8"/>
          <a:stretch/>
        </p:blipFill>
        <p:spPr>
          <a:xfrm>
            <a:off x="907920" y="3681360"/>
            <a:ext cx="2036880" cy="46368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9"/>
          <a:stretch/>
        </p:blipFill>
        <p:spPr>
          <a:xfrm>
            <a:off x="1590840" y="4011480"/>
            <a:ext cx="1616040" cy="46836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10"/>
          <a:stretch/>
        </p:blipFill>
        <p:spPr>
          <a:xfrm>
            <a:off x="907920" y="5016600"/>
            <a:ext cx="2921040" cy="67788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11"/>
          <a:stretch/>
        </p:blipFill>
        <p:spPr>
          <a:xfrm>
            <a:off x="920880" y="5614920"/>
            <a:ext cx="55036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20:49Z</dcterms:modified>
  <cp:revision>10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