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82A-A152-40DC-8BBB-516D31A1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7F2-A09D-4C1E-9949-0DBB06F6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D16-3E00-4D41-BFB4-B545E9F0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E05-BCEE-42B8-A9C1-1340CFC5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FF8-B24E-47C2-8830-8D18DB9A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1EE-6DA3-4C0C-BEAB-B65368F4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7F4-3122-4070-9E24-5D03A60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2D2-9E09-4EC0-A852-85A3BFF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C84-D54F-4B62-81E8-68910633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564-4A74-424C-860E-BCBEEC1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4D6-D8C8-4DA1-8361-96D33D9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8FF-A1E2-47EF-85ED-9BAE55C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D4D-9D71-441C-AB35-F389FB02C0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7120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82854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49640"/>
            <a:ext cx="2554200" cy="1145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840120" y="3260880"/>
            <a:ext cx="140832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689040" y="2017800"/>
            <a:ext cx="416412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69800" y="2670120"/>
            <a:ext cx="37418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981000" y="3309840"/>
            <a:ext cx="250524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925640" y="3706920"/>
            <a:ext cx="32068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9"/>
          <a:stretch/>
        </p:blipFill>
        <p:spPr>
          <a:xfrm>
            <a:off x="5950080" y="4584600"/>
            <a:ext cx="2450880" cy="5731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463680" y="4541760"/>
            <a:ext cx="408924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882880" y="5010120"/>
            <a:ext cx="2878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657760" y="2335320"/>
            <a:ext cx="272412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596880" y="5138640"/>
            <a:ext cx="386568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030320" y="3749760"/>
            <a:ext cx="13888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66640" y="2298600"/>
            <a:ext cx="50421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566640" y="2792520"/>
            <a:ext cx="391968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566640" y="927000"/>
            <a:ext cx="29149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8"/>
          <a:stretch/>
        </p:blipFill>
        <p:spPr>
          <a:xfrm>
            <a:off x="5657760" y="394956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66640" y="4614840"/>
            <a:ext cx="46515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579600" y="1511280"/>
            <a:ext cx="2876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9:00Z</dcterms:modified>
  <cp:revision>10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