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169-2F63-4219-B978-C4305E94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77A-5F94-4193-B34E-4C639ED0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026-AAB3-4C5F-862C-B07BBF42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360-65A8-449E-8008-9CCD16D3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0B6-AA66-4909-B6D9-8A85C45C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E36-DDA9-4968-AF9C-EDEB5B0E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3B4-EC28-4988-850A-5393BA3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BFF-B7AF-4093-B901-B1BB63D3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63D-3213-407B-AF64-5D364AAD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DC1-5A22-4412-9792-16E790B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A1A-BFF2-47DD-A37A-A4AC16A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DAB-409E-4B37-90D8-5690B3F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7B97-18BB-4E39-8DC4-8B36202D41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944640"/>
            <a:ext cx="7944120" cy="10969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742000" y="2114640"/>
            <a:ext cx="2811600" cy="15494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3541680" y="3797280"/>
            <a:ext cx="185256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57200" y="1974960"/>
            <a:ext cx="5211720" cy="920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87440" y="2987640"/>
            <a:ext cx="559584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590400" y="5254560"/>
            <a:ext cx="3616560" cy="6336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536400" y="3902040"/>
            <a:ext cx="2597400" cy="461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469800" y="4645080"/>
            <a:ext cx="540720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2023920" y="3816360"/>
            <a:ext cx="1657440" cy="6332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2305080" y="5284800"/>
            <a:ext cx="25048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4" descr=""/>
          <p:cNvPicPr/>
          <p:nvPr/>
        </p:nvPicPr>
        <p:blipFill>
          <a:blip r:embed="rId2"/>
          <a:stretch/>
        </p:blipFill>
        <p:spPr>
          <a:xfrm>
            <a:off x="5999040" y="1030320"/>
            <a:ext cx="276084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2736720" y="969840"/>
            <a:ext cx="1530360" cy="6336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469800" y="2309760"/>
            <a:ext cx="2602080" cy="920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487440" y="5541840"/>
            <a:ext cx="3828960" cy="614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487440" y="1054080"/>
            <a:ext cx="178596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2279520" y="2498760"/>
            <a:ext cx="6108840" cy="6224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487440" y="1663560"/>
            <a:ext cx="2163600" cy="6224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2266920" y="1731960"/>
            <a:ext cx="2457360" cy="4683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2279520" y="3127320"/>
            <a:ext cx="516420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1"/>
          <a:stretch/>
        </p:blipFill>
        <p:spPr>
          <a:xfrm>
            <a:off x="2279520" y="3681360"/>
            <a:ext cx="5164200" cy="6159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2"/>
          <a:stretch/>
        </p:blipFill>
        <p:spPr>
          <a:xfrm>
            <a:off x="2279520" y="4260960"/>
            <a:ext cx="384012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20" descr=""/>
          <p:cNvPicPr/>
          <p:nvPr/>
        </p:nvPicPr>
        <p:blipFill>
          <a:blip r:embed="rId13"/>
          <a:stretch/>
        </p:blipFill>
        <p:spPr>
          <a:xfrm>
            <a:off x="7029360" y="4346640"/>
            <a:ext cx="1730520" cy="10173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4"/>
          <a:stretch/>
        </p:blipFill>
        <p:spPr>
          <a:xfrm>
            <a:off x="2273400" y="4876920"/>
            <a:ext cx="38415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0:58:08Z</dcterms:modified>
  <cp:revision>12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