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E09-C0D5-47C6-82B1-8B8FC457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49B-F816-4A82-BE06-6E18F6CD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D7F-643E-4929-8783-713F2E58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2A2-B4F7-428A-846B-CEDC8B51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096-E8E2-4722-BEFF-B73DD327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331-5DDC-48AB-A5A1-010D4799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DCE-58B5-47E7-888C-61570A4B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FF0-E058-4400-BC2D-6885DDD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640-EE42-448D-AE34-916BD76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F81-736C-458E-8FAB-AA78D7CB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1B7-01FB-4D98-8EBE-9231DFC1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70E-B5D6-4A64-A99B-7A5A15A9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E89-800E-4FF0-BD8D-5CAFEF332E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4675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67440" y="2101680"/>
            <a:ext cx="2451240" cy="7876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627120" y="4017960"/>
            <a:ext cx="34002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03240" y="2725560"/>
            <a:ext cx="5133960" cy="5479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47840" y="1955880"/>
            <a:ext cx="22730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38120" y="3182760"/>
            <a:ext cx="5518080" cy="6940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881440" y="1951200"/>
            <a:ext cx="3297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2098800" y="2706840"/>
            <a:ext cx="3348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901800" y="1073160"/>
            <a:ext cx="2597040" cy="858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3165480" y="938160"/>
            <a:ext cx="329256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44600" y="1930320"/>
            <a:ext cx="46749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7:28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