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1D6-D6B1-4FC6-ACEE-27A6ED05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C7F-43CE-4503-9508-AA47695C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0AF-F090-44BF-B0AA-D4CE3719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93F-BAC6-4CFA-BD8D-046A9C9C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6C1-8E11-475A-8E71-29F72FE8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25B-E80A-4FDC-8C65-9EAA8417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565-8D2B-4527-8899-56C95799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4D4-2630-4B23-B0D0-069AE6C1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626-23BB-40B2-A3C7-C7E743E3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84E-4100-40FC-8689-359834A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271-4B53-4470-A964-0DF620A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29E-DEA7-4686-B8DE-0F42C4C6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9E66-2F6E-45C8-9173-C7C643B685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29280" y="2724120"/>
            <a:ext cx="246852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2157480" y="537048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21272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0960" y="2792520"/>
            <a:ext cx="5595840" cy="633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63680" y="4432320"/>
            <a:ext cx="534672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665280" y="3614760"/>
            <a:ext cx="2601720" cy="676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193840" y="3633840"/>
            <a:ext cx="2597400" cy="663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69960" y="5327640"/>
            <a:ext cx="1658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4" descr=""/>
          <p:cNvPicPr/>
          <p:nvPr/>
        </p:nvPicPr>
        <p:blipFill>
          <a:blip r:embed="rId2"/>
          <a:stretch/>
        </p:blipFill>
        <p:spPr>
          <a:xfrm>
            <a:off x="6224760" y="1878120"/>
            <a:ext cx="2455560" cy="8715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023920" y="5010120"/>
            <a:ext cx="115740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450720" y="12128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480960" y="4492800"/>
            <a:ext cx="523728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6640" y="3986280"/>
            <a:ext cx="1805040" cy="506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824120" y="3930480"/>
            <a:ext cx="1365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536400" y="5048280"/>
            <a:ext cx="16574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450720" y="1914480"/>
            <a:ext cx="568800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731960" y="23652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1731960" y="28224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469800" y="3382920"/>
            <a:ext cx="5686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3"/>
          <a:stretch/>
        </p:blipFill>
        <p:spPr>
          <a:xfrm>
            <a:off x="2444760" y="3968640"/>
            <a:ext cx="1803240" cy="5065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4"/>
          <a:stretch/>
        </p:blipFill>
        <p:spPr>
          <a:xfrm>
            <a:off x="2610000" y="5052960"/>
            <a:ext cx="17967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0:22Z</dcterms:modified>
  <cp:revision>11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