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E212-7182-4F6A-8E3C-807CB4F7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F94A-BC5E-4C86-8D4C-36E4B62C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0B0D-2D51-460D-841E-27B31F72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EAF3-B711-45D2-B206-60A73D1F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E67B-6750-40D7-8AAE-C77DBFC1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F217-6A19-4B25-B5AB-B458E77F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D933-ABCF-4D31-9656-68DB24E9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874D-5ACD-4F57-96AB-E1C159FA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CE5A-C817-40DE-94DE-93E0889B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8305-32ED-4189-B18F-4E9C60B5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9B15-442E-4F51-82E7-F01D2680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9557-E5E1-400D-99DA-F3CB3FBB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628F-372D-4E06-8927-20B03F49E9B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3152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93560" y="1962000"/>
            <a:ext cx="8180640" cy="64800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1859040" y="3041640"/>
            <a:ext cx="2133360" cy="46368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963720" y="2419200"/>
            <a:ext cx="5095800" cy="6955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2176560" y="3456000"/>
            <a:ext cx="15843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2" descr=""/>
          <p:cNvPicPr/>
          <p:nvPr/>
        </p:nvPicPr>
        <p:blipFill>
          <a:blip r:embed="rId2"/>
          <a:stretch/>
        </p:blipFill>
        <p:spPr>
          <a:xfrm>
            <a:off x="493560" y="1962000"/>
            <a:ext cx="8180640" cy="6480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4"/>
          <a:stretch/>
        </p:blipFill>
        <p:spPr>
          <a:xfrm>
            <a:off x="1841400" y="2968560"/>
            <a:ext cx="213372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5"/>
          <a:stretch/>
        </p:blipFill>
        <p:spPr>
          <a:xfrm>
            <a:off x="963720" y="2419200"/>
            <a:ext cx="5095800" cy="69552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6"/>
          <a:stretch/>
        </p:blipFill>
        <p:spPr>
          <a:xfrm>
            <a:off x="2266920" y="3402000"/>
            <a:ext cx="153036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2" descr=""/>
          <p:cNvPicPr/>
          <p:nvPr/>
        </p:nvPicPr>
        <p:blipFill>
          <a:blip r:embed="rId2"/>
          <a:stretch/>
        </p:blipFill>
        <p:spPr>
          <a:xfrm>
            <a:off x="493560" y="1962000"/>
            <a:ext cx="8180640" cy="64800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4"/>
          <a:stretch/>
        </p:blipFill>
        <p:spPr>
          <a:xfrm>
            <a:off x="901800" y="3151080"/>
            <a:ext cx="2133360" cy="55584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5"/>
          <a:stretch/>
        </p:blipFill>
        <p:spPr>
          <a:xfrm>
            <a:off x="890640" y="2419200"/>
            <a:ext cx="5089320" cy="69552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6"/>
          <a:stretch/>
        </p:blipFill>
        <p:spPr>
          <a:xfrm>
            <a:off x="3206880" y="3151080"/>
            <a:ext cx="3022560" cy="54936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7"/>
          <a:stretch/>
        </p:blipFill>
        <p:spPr>
          <a:xfrm>
            <a:off x="841320" y="3949560"/>
            <a:ext cx="4816440" cy="51300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8"/>
          <a:stretch/>
        </p:blipFill>
        <p:spPr>
          <a:xfrm>
            <a:off x="987480" y="4559400"/>
            <a:ext cx="2766960" cy="5428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9"/>
          <a:stretch/>
        </p:blipFill>
        <p:spPr>
          <a:xfrm>
            <a:off x="828720" y="5157720"/>
            <a:ext cx="276840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8T10:41:26Z</dcterms:modified>
  <cp:revision>88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