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11B-29BA-46FB-A14E-56BF46C2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E6A-AFDA-4D6D-A600-0465927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894-8E37-43EB-B0AD-395B1F5A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30F-75B7-454B-A5FD-ADA66A57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CFC-499B-4C7F-9B69-5261EBA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73C-6331-4775-ABD7-1D204206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B39-1014-4007-B40B-F2078127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7B1-036C-4275-B6F2-2464418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185-7877-424A-B351-9B062072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286-76FA-4493-B72F-EC980FD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983-931A-42BC-B404-550C3DE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001-1A6A-4C78-8356-5D3318E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E03D-E6B2-41B7-8E0F-B4638C51E2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883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740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66920"/>
            <a:ext cx="312084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490680" y="3662280"/>
            <a:ext cx="28526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38160" y="2857680"/>
            <a:ext cx="2035080" cy="78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622440" y="1908000"/>
            <a:ext cx="227304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868400" y="4468680"/>
            <a:ext cx="1774800" cy="8524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20" descr=""/>
          <p:cNvPicPr/>
          <p:nvPr/>
        </p:nvPicPr>
        <p:blipFill>
          <a:blip r:embed="rId8"/>
          <a:stretch/>
        </p:blipFill>
        <p:spPr>
          <a:xfrm>
            <a:off x="5967360" y="3108240"/>
            <a:ext cx="3084480" cy="1013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752560" y="1908000"/>
            <a:ext cx="3297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3413160" y="2709720"/>
            <a:ext cx="32972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833400" y="5645160"/>
            <a:ext cx="2975040" cy="676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158920" y="3736800"/>
            <a:ext cx="284652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1798560" y="2803680"/>
            <a:ext cx="3348000" cy="933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812880" y="4608360"/>
            <a:ext cx="5400720" cy="9385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1314360" y="1197000"/>
            <a:ext cx="2597400" cy="6825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4" descr=""/>
          <p:cNvPicPr/>
          <p:nvPr/>
        </p:nvPicPr>
        <p:blipFill>
          <a:blip r:embed="rId7"/>
          <a:stretch/>
        </p:blipFill>
        <p:spPr>
          <a:xfrm>
            <a:off x="6127920" y="2147760"/>
            <a:ext cx="2609640" cy="577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3268800" y="5388120"/>
            <a:ext cx="453528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3240000" y="957240"/>
            <a:ext cx="3292560" cy="932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843120" y="1844640"/>
            <a:ext cx="3833640" cy="100476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3" descr=""/>
          <p:cNvPicPr/>
          <p:nvPr/>
        </p:nvPicPr>
        <p:blipFill>
          <a:blip r:embed="rId11"/>
          <a:stretch/>
        </p:blipFill>
        <p:spPr>
          <a:xfrm>
            <a:off x="5435640" y="4162320"/>
            <a:ext cx="3328920" cy="579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1130400" y="4210200"/>
            <a:ext cx="285264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6" descr=""/>
          <p:cNvPicPr/>
          <p:nvPr/>
        </p:nvPicPr>
        <p:blipFill>
          <a:blip r:embed="rId13"/>
          <a:stretch/>
        </p:blipFill>
        <p:spPr>
          <a:xfrm>
            <a:off x="6141960" y="4883040"/>
            <a:ext cx="26100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4" descr=""/>
          <p:cNvPicPr/>
          <p:nvPr/>
        </p:nvPicPr>
        <p:blipFill>
          <a:blip r:embed="rId2"/>
          <a:stretch/>
        </p:blipFill>
        <p:spPr>
          <a:xfrm>
            <a:off x="5761080" y="1301760"/>
            <a:ext cx="312084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698400" y="995400"/>
            <a:ext cx="468180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4214880" y="2478240"/>
            <a:ext cx="3298680" cy="14745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685800" y="2992320"/>
            <a:ext cx="39751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6"/>
          <a:stretch/>
        </p:blipFill>
        <p:spPr>
          <a:xfrm>
            <a:off x="689040" y="4456080"/>
            <a:ext cx="3975120" cy="677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7"/>
          <a:stretch/>
        </p:blipFill>
        <p:spPr>
          <a:xfrm>
            <a:off x="4229280" y="3949560"/>
            <a:ext cx="3292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6:42Z</dcterms:modified>
  <cp:revision>9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