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1E6-FA10-4FE4-B384-2EBDA87D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1FA-D0F3-4BCA-8C61-7666A237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620-52BE-48B1-B1FF-7161152A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7D4-F724-4709-8719-F8F92307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E60-06C1-4F28-A8AB-FF9E60F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981-241A-490D-B67C-598219D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211-C70D-4528-8EE8-9B065ABA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AA9-E4FC-41BD-9B58-6C59F41E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432-DD51-4587-BE00-BE0E4D5E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679-C39B-48F6-AD5C-D734561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899-2C8C-48CC-9720-5E7234D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03E-694E-440D-9A24-78B7F91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7DC7-DD7E-4D07-93D4-EB668FA5A5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87360" y="1101600"/>
            <a:ext cx="831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773360"/>
            <a:ext cx="6108480" cy="4633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50880" y="1085760"/>
            <a:ext cx="7851600" cy="652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230800" y="343224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822240" y="3956040"/>
            <a:ext cx="41148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523800" y="3413160"/>
            <a:ext cx="822960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17680" y="2876400"/>
            <a:ext cx="588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17680" y="2200320"/>
            <a:ext cx="5041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10T16:06:10Z</dcterms:modified>
  <cp:revision>6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